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7AE-21D6-4AA6-BF19-6EAD3B2C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8F0-FB2B-491E-BB4D-C5A94FA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51E-A165-4C58-AE3A-2261A3C5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068-AAEC-4A1B-BD8A-E9A10F52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075-F8F8-4AE9-9DFA-43949A20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FBB-6EF1-451C-BBB5-990B24D0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BD1-1C31-4BF8-84E1-D7FDD7FC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737-4FD4-4CF9-824F-F7E4F1C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F58-C76C-4F72-803C-B9262FE6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136-B69F-4BC0-8254-60BB5F6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C63-74EE-4B66-BD6D-A86F7E3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3CD-7544-48B0-A653-C6036D3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585-54C6-4233-8081-3AD5E9DC3A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ghs.penza@gmail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Arial"/>
              </a:rPr>
              <a:t>Mr. Penza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Project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 Greenwich Public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ghs.penza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1-398-13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038840" cy="96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* Mentor *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at is the role of a Mentor?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es student on field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off on field work lo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teacher” of skills used to crea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guide student in creation of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guide for discussion and reflection on the field work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Field Work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as documented hours of work a student will complete with his/her mentor during his/her senior ye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done with a Men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represent a learning stret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.W. Log required to document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work process must equa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Research Paper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is 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to eight pages in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have a connection to Senior Project Top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 taught/covered in Junior and Senior full-year English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written in student's junior year as well as senio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GR Coordinator is teacher/ assessor for students taking elective English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onnecting the Research Paper to Senior Project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Abstract Guide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On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your Research Paper thesi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rize the main points you use to support your thes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kind of sources did you use to support your thesi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conclusions can you draw from your work writing your Research Pape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Tw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lain how and why you became interested in your Research Paper topic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d you learn anything surprising while doing you researc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d you change you point of view in the midst of the researc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connection between the research paper and your senior projec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was your paper related to your produc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Thre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your learning stretch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was your project a challenge for you and how did it “stretch” your skills and knowledg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types of problems did you have to solve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8600" y="1371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 students will include in their Senior Project Portfolios an abstract (summary sheet)  of their Research Paper that conforms to the following Guide Shee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roduct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s require students to apply the knowledge gained during the fieldwork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must have a clear “learning stret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s must be completed on the students’ own time, must be challenging, and must require at least fifteen hours of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ors may work with students  to develop their product during this phase of Senior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resentation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ed to a panel of judges (teachers, community members, etc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 to twelve minutes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have a clear outline to fo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racticed after school in Room 1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student will expla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of Research Paper and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Stretch of Proj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ion of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ortfolio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o Senior Project Panels befor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roduction to Ju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or Information/Parental Acknowledgement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Paper Abstra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work Time Log signed by your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Fieldwork Journal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Exampl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 Sm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ying acoustic guitar, woodshop, football, karate, b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opic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coustic Guita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tter of Inte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uild an acoustic guit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nto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tt Brown (owns custom guitar sho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ield Work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b w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how to put together a custom gui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what types of woods and metals are best in making an acoustic guita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how custom guitars are bought and sold from a small business 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arch Pap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use of Mahogany as the top wood in an acoustic guitar creates the best overall sou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duc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mpleted acoustic guitar with a price analysis that compares the price / benefits of making an acoustic guitar with the price/ benefits of buying one “off the shel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at should Juniors do NOW!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Pan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s change but the timeli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seniors about their S.P. experi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os &amp; don’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Mr. Penz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your possible S.P. inte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to tailor your  junior research paper around the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garding your Research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brics, drafts, teacher-corrected pieces, electronic copi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submitting your LOI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Questions for Brainstorming Topics – S.P. &amp; R.P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the next five years what things do you hope to have accomplish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hings would you like to be able to do bett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wish you had more time f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hings would you like to learn more abou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st some experiences that you really wish you could ha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ontroversial issues do you really feel strongly abou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a profession you think about but have not seriously explor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one thing you believe needs to be improv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lasses have you taken and really liked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one handcrafted item you wish you could own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wish would happen in your lif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goal have you avoid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complain abou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like to get others to 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special or unique about you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ommunity group do you belong to / wish you belonged t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’t you do, but would like to 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could earn $100.00 an hour doing anything, what would it b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ow do I stay informed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id not know” is not an excu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stay informed about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Mr. Penza 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Project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by Room 243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e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appoi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y Senior Project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RIDE says so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Project is part of the Proficiency Based Graduation Requirement mandated by the Department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Board of Reg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igh schools shall provide evidence of the manner in which they incorporate applied learning skills in communication, problem solving, critical thinking, research, and  reflection/evaluation across all content area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re Components of Senior Projec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676160"/>
            <a:ext cx="6477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 of I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Topic Selection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select a topic about which they are interes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est topics are those about which students have a real desire to learn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ject must represent a “learning stretch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 have previous skills or experience in the area which they are considering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fulfill Senior Project they will have to explore this subject in a genuinely new and challenging manner, not simply repeat what they already know or have previously lea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Learning Stretch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learning stretch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earning stretch is defined as the demonstration of knowledge and research over and beyond previously learned material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A student may have been playing soccer all of his/her life but has never coached someone on how to play socc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Letter of Intent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iece of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final portfol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outlines his/her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nd assessed by the EGHS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OI Presentation Logistic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ll be built in to the school day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niors will present their Senior Project to a panel of three judges. At least one of the teachers on the panel will have had the student for a year in clas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very senior must present, regardless of whether  or not they are following the early  or regular presentation schedul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sentations will last two minutes with an additional two minutes given for judges ques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s will be a common task for English using the School Wide Oral Presentation Rubric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* Mentor *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o can be a Mentor?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at least 21 years of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willing to give 15 hours of unpaid field work time with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family member or rel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current emplo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teacher at EG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05:06Z</dcterms:created>
  <dc:creator>Mike Penza</dc:creator>
  <dc:description/>
  <dc:language>en-US</dc:language>
  <cp:lastModifiedBy>kizzo</cp:lastModifiedBy>
  <dcterms:modified xsi:type="dcterms:W3CDTF">2010-12-03T15:24:14Z</dcterms:modified>
  <cp:revision>34</cp:revision>
  <dc:subject/>
  <dc:title>Slide 1</dc:title>
</cp:coreProperties>
</file>